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56C-4179-49F8-BB3A-0E18EB76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916-DDEB-44FD-AA75-5F3B87F0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1E6-7804-49D3-9F34-7D090F79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22E-BC75-40A8-9009-CBB653CA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3445-32F5-41AD-AACA-66A4831A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A9EF-48F2-43DF-B7D2-C04F3153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548-0AA2-4D51-8935-6907EEF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773E-77BA-43C1-BB55-158A0D4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598-DE51-4A06-8CBA-1547A3B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D09-8340-4E45-BB65-89EE819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32DA-C237-4F8F-A95A-B11DDBE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224-D3E5-49FD-926E-09CF0EE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FC5E-3306-42F8-BA4C-2EA51DC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4D57-8B4D-4223-806F-EC54FF0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214-FD2E-4266-8018-C3516FA6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CD11-9E98-40E1-8615-59F8473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541-B167-45BE-B0E2-E9A21BB3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C5A-F392-496F-B874-4CDF7F1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734-8EA7-4561-B12B-19616E07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E09-7197-4685-B623-46531E9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0C1-C4BF-453C-8204-B686080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14B-1F31-4813-B668-DA4888E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6DE-3717-4CFC-A48B-74FEB4D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F71-58C0-43D3-86EB-BF66F93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709D-2EE4-43A9-A589-9E21735C9A1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2F1-D67F-4FCE-A686-BD52DFCBD09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3 квартал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5" descr=""/>
          <p:cNvPicPr/>
          <p:nvPr/>
        </p:nvPicPr>
        <p:blipFill>
          <a:blip r:embed="rId1"/>
          <a:stretch/>
        </p:blipFill>
        <p:spPr>
          <a:xfrm>
            <a:off x="568440" y="191628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3355,0 тыс. рублей (57,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альтернативный процесс 7"/>
          <p:cNvSpPr/>
          <p:nvPr/>
        </p:nvSpPr>
        <p:spPr>
          <a:xfrm>
            <a:off x="539640" y="2924280"/>
            <a:ext cx="2664000" cy="22017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14,9 тыс. рублей (58,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40,1 тыс. рублей (50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Блок-схема: процесс 11"/>
          <p:cNvSpPr/>
          <p:nvPr/>
        </p:nvSpPr>
        <p:spPr>
          <a:xfrm>
            <a:off x="3492360" y="553572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14,9 тыс. рублей (58,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Прямая со стрелкой 14"/>
          <p:cNvCxnSpPr>
            <a:stCxn id="108" idx="4"/>
            <a:endCxn id="109" idx="0"/>
          </p:cNvCxnSpPr>
          <p:nvPr/>
        </p:nvCxnSpPr>
        <p:spPr>
          <a:xfrm flipH="1">
            <a:off x="1871280" y="2511000"/>
            <a:ext cx="284544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7"/>
          <p:cNvCxnSpPr>
            <a:stCxn id="108" idx="5"/>
            <a:endCxn id="110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44"/>
          <p:cNvCxnSpPr>
            <a:stCxn id="109" idx="2"/>
            <a:endCxn id="111" idx="0"/>
          </p:cNvCxnSpPr>
          <p:nvPr/>
        </p:nvCxnSpPr>
        <p:spPr>
          <a:xfrm>
            <a:off x="1871280" y="5126040"/>
            <a:ext cx="280908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6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6,9 тыс. рублей (54,9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795,6 тыс. рублей (93,1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Блок-схема: альтернативный процесс 16"/>
          <p:cNvSpPr/>
          <p:nvPr/>
        </p:nvSpPr>
        <p:spPr>
          <a:xfrm>
            <a:off x="108000" y="3357720"/>
            <a:ext cx="4968720" cy="12268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729,7 тыс. рублей (10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Прямая со стрелкой 22"/>
          <p:cNvCxnSpPr/>
          <p:nvPr/>
        </p:nvCxnSpPr>
        <p:spPr>
          <a:xfrm>
            <a:off x="4859280" y="3094200"/>
            <a:ext cx="165816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Блок-схема: альтернативный процесс 33"/>
          <p:cNvSpPr/>
          <p:nvPr/>
        </p:nvSpPr>
        <p:spPr>
          <a:xfrm>
            <a:off x="4500720" y="4653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вопросы в области национальной экономики  65,9 тыс. рублей  (3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34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Диаграмма 4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19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 221,1 тыс. рублей (5,8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по техническому обслуживанию газопроводов в рамках подпрограммы «Создание условий для обеспечения качественными жилищно-коммунальными услугами населения Митякинского сельского поселения» муниципальной программы «Обеспечение качествен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54,9тыс. рублей (46,0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154,9  тыс. рублей (46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34"/>
          <p:cNvCxnSpPr>
            <a:stCxn id="130" idx="6"/>
            <a:endCxn id="132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1 066,2 тыс. рублей (5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Прямая со стрелкой 53"/>
          <p:cNvCxnSpPr>
            <a:stCxn id="130" idx="4"/>
            <a:endCxn id="134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7415"/>
          <p:cNvCxnSpPr>
            <a:stCxn id="134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7" name="Соединительная линия уступом 19"/>
          <p:cNvCxnSpPr>
            <a:endCxn id="131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428840" y="83664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Диаграмма 4" descr=""/>
          <p:cNvPicPr/>
          <p:nvPr/>
        </p:nvPicPr>
        <p:blipFill>
          <a:blip r:embed="rId1"/>
          <a:stretch/>
        </p:blipFill>
        <p:spPr>
          <a:xfrm>
            <a:off x="330120" y="1298520"/>
            <a:ext cx="88138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 473,0 тыс. рублей ( 57,6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473,0 тыс. рублей (57,6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Прямая со стрелкой 22"/>
          <p:cNvCxnSpPr>
            <a:endCxn id="145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473,0  тыс. рублей ( 57,6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Прямая со стрелкой 24"/>
          <p:cNvCxnSpPr>
            <a:stCxn id="145" idx="2"/>
            <a:endCxn id="147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50" name="Диаграмма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3 квартал 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5280" y="1413000"/>
            <a:ext cx="842472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4.01.2020 №1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2.02.2020  № 4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7.03.2020  № 7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3 квартал 2020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Диаграмма 4" descr=""/>
          <p:cNvPicPr/>
          <p:nvPr/>
        </p:nvPicPr>
        <p:blipFill>
          <a:blip r:embed="rId1"/>
          <a:stretch/>
        </p:blipFill>
        <p:spPr>
          <a:xfrm>
            <a:off x="-50760" y="1346040"/>
            <a:ext cx="9353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84240" y="44280"/>
            <a:ext cx="9037440" cy="462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395280" y="1413000"/>
            <a:ext cx="8424720" cy="61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04.2020  № 9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05.06.2020  № 10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9.06.2020  № 12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09.07.2020  № 13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8.08.2020  № 14 «О внесении изменений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84240" y="44280"/>
            <a:ext cx="9037440" cy="462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95280" y="1413000"/>
            <a:ext cx="842472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8.09.2020  № 16 «О внесении 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шение Собрания депутатов Митякинского сельского поселения от 26.12.2019 № 28 «О бюджете Митякинского сельского  поселения Тарасовского района на 2020 год и на плановый период 2021 и 2022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20 год и на плановый период 2021 и 2022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573,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80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83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718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80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83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45,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0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3 квартал  2020 года составило по доходам в сумме 10 242,3 тыс. рублей (31,4% от уточнённого плана) и по расходам в сумме 9 016,3 тыс. рублей (26,7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3 квартал 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785880"/>
          <a:ext cx="8642160" cy="582444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3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 16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7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63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22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50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063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00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28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17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7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90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25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9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71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6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3 квартал 2020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Диаграмма 3" descr=""/>
          <p:cNvPicPr/>
          <p:nvPr/>
        </p:nvPicPr>
        <p:blipFill>
          <a:blip r:embed="rId2"/>
          <a:stretch/>
        </p:blipFill>
        <p:spPr>
          <a:xfrm>
            <a:off x="61920" y="930240"/>
            <a:ext cx="8686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3 квартал 2020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240" y="857160"/>
          <a:ext cx="8843760" cy="467208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3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 86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5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96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22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87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3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3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еспечение пожарной безопас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14200" y="214200"/>
          <a:ext cx="8821800" cy="438336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  <a:gridCol w="57636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0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3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1 00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3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 66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охраны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, переподготовка и повышение квалифик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29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4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29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73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72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3 71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1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W7</cp:lastModifiedBy>
  <dcterms:modified xsi:type="dcterms:W3CDTF">2020-10-22T13:20:50Z</dcterms:modified>
  <cp:revision>3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